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2FB6-E169-44FF-8FDB-F02900525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ствуйте, меня зовут Литвиненко Никита. Я представляю свое исследование «Прогноз по примета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ные умеют объяснять большинство примет. Например, примета о ласточках. Она    связана          с     поведением    насекомых:   чувствуя   непогоду, они   затаиваются   в      траве, или     летают     очень   низко. Вот      ласточки   и   ловят   их   над   самой   землей.   В хорошую  погоду ласточки охотятся высок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яя примета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ертикально поднимающемся столбе дыма объясняется тем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теплый дым, имея в своем окружении более холодную воздушную массу, беспрепятственно движется вверх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 дым "столбом", следовательно, является признаком продолжающейся зимой морозной погоды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в своей жизни опирается в первую очередь на опыт предшественников. Мне стало интересно, новое поколение придерживается ли этого. И на примере прогноза погоды я провел исследование в форме опроса среди учащихся своего класса, связанное с прогнозом погоды. Вот его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Вами список использованных мной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, я готов выслушать Ваши вопро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исследовательского проекта: определениие примет, достоверно предсказывающих пог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достичь цели, я поставил следующие задач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едположил, что народные приметы можно использовать для прогноза погоды. Они надежны, так как основаны на многолетних наблюдениях. Их можно объяснить с точки зрения на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«примета» происходит от глагола «примечать», то есть улавливать связь между явлениями, как будто бы не связанными между собой. Людям понадобилось «примечать», чтобы предвидеть изменения погоды и ее влияние на урожа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од их накапливал веками и научился довольно точно «угадывать» погоду по ветру и облакам, луне и звездам, восходу и заходу солнц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литературных источниках, которые я изучил, мной было выбрано большое количество примет. Все их можно разделить на три группы. Их название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иметы показались мне наиболее интересными из первой группы. Животным, предсказывающим погоду я дал название «живые барометр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показалось, что предсказывать погоду по растениям достаточно трудно. Однако, если быть наблюдательным, можно убедиться, что такие приметы практически всегда безошибоч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й стране известно свыше 400 растений, которые чутко реагируют на изменение погоды и могут быть использованы в качестве живых баромет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огоды по состоянию неба ученые считают достаточно то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везды всегда смотрели пристально, стараясь угадать, что готовит день грядущий. И тут мы уже имеем дело не с суевериями или волшебными фантазиями, а с точными наблюдениями внимательных и памятливых людей. «Звездные приметы» и мне с вами пригодя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691-FD95-462C-96C8-90D9D878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4CD-3F41-4F0B-93A0-930CAA0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0ED-698A-4A8D-B387-323667D5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B56-B130-425F-85C6-BAAE1128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2643-AECE-4286-AF80-1EC85DB9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F7D-5BAC-4F03-A72A-DE0090A2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0FA8-8190-4BAE-9E14-D746B32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25CD-1D90-4CBA-843B-0D680045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39D-15CE-48FC-A149-92B8F45B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A747-D50B-49C7-940F-AA5B7BF2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586F-CC61-4970-B07B-F736F1CB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CCA-E315-4FC8-95FE-FD406BE1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8AB-E838-4BF1-B8CB-D2C9E36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B8E-EF0A-4E49-8CAE-FE8B21F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700-53C3-4BB1-B16A-406CD077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6A7-D03D-46D1-B3A9-5FC9406D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E7CA-D5EA-4CEC-9F4B-1510311D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693-73FF-474D-8BDF-FE39AAE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15A-3379-4571-9D8B-54E552EB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C04-B04B-43F1-A215-4C1F575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6CA-39E3-4066-8660-90911D68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54A-7BCF-4FA8-8104-6BC6671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B98-AE1E-45C9-A1B4-473C05F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22D-3FA6-4165-A56C-7B4C444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F4C-B650-42A6-BF53-AE595242FF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B29-43DC-4269-96EA-FD6EA4EEE0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otshelnika.ru/znaniya-primet-o-pogode-oblegchaet-zhiznedeyatelnost-lyudej.html" TargetMode="External"/><Relationship Id="rId2" Type="http://schemas.openxmlformats.org/officeDocument/2006/relationships/hyperlink" Target="http://meteo.krasnoyarsk.ru/" TargetMode="External"/><Relationship Id="rId3" Type="http://schemas.openxmlformats.org/officeDocument/2006/relationships/hyperlink" Target="http://www.oxota-ru.ru/turizm.html?id=362&amp;print=true" TargetMode="External"/><Relationship Id="rId4" Type="http://schemas.openxmlformats.org/officeDocument/2006/relationships/hyperlink" Target="http://www.oxota-ru.ru/turizm.html?id=362&amp;print=true" TargetMode="External"/><Relationship Id="rId5" Type="http://schemas.openxmlformats.org/officeDocument/2006/relationships/hyperlink" Target="http://pogodaprognoz.ru/" TargetMode="External"/><Relationship Id="rId6" Type="http://schemas.openxmlformats.org/officeDocument/2006/relationships/hyperlink" Target="http://pogodaprognoz.ru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Прогноз по примета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038480" y="4114800"/>
            <a:ext cx="47246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твиненко Ники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 4-Г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лицея №57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Научные объяснения приме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1871640" cy="220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38480" y="2056320"/>
            <a:ext cx="358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асточки  низко  летают – будет дожд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343400"/>
            <a:ext cx="3657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cbcb"/>
                </a:solidFill>
                <a:latin typeface="Times New Roman"/>
              </a:rPr>
              <a:t>Если зимой дым поднимается вверх, то будет сильный мороз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15000" y="3886200"/>
            <a:ext cx="18954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Результаты опроса </a:t>
            </a:r>
            <a:br>
              <a:rPr sz="4400"/>
            </a:b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Что мы знаем о прогнозе погоды?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438280"/>
            <a:ext cx="7696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 ребят прогноз погоды узнают из теленовос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3% верят в прогноз погоды и знают народные приметы, хотя не всегда используют их для самостоятельного прогнозирования погод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ая часть ребят – 70% согласились со мной  о необходимости народного календаря для человека в прогнозировании пог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жно считать, что цели моего исследовательского проекта достигнуты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ff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собрал и частично проверил информацию о народных приметах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ff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тавил классификацию примет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ff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учил результаты общественного мнения об эффективности предсказания погоды по примета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ская энциклопедия. Познавательный журнал для девочек и мальчиков. Народные приметы. №3-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ский народный календарь. Приметы, поверья, игры, рецепты, рукоделье / М. Дет.лит.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ласова, М. Н. Русские суеверия: Энциклопедический словарь / М.Н.Власова.– СПб.: Азбука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углый год. Земледельческий календарь./ М.Правда,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http://blogotshelnika.ru/znaniya-primet-o-pogode-oblegchaet-zhiznedeyatelnost-lyudej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http://meteo.krasnoyarsk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://www.oxota-ru.ru/turizm.html?id=362&amp;print=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6"/>
              </a:rPr>
              <a:t>pogodaprognoz.ru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bcbcb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ь исследования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124080"/>
            <a:ext cx="2819520" cy="2667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1752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ределениие примет, достоверно предсказывающих погод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дачи исследования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накомиться с народными приметами о погоде и составить их классификацию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вести собственное наблюдение, изучить приметы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ить достоверность предсказаний погоды по приметам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Гипотеза исследования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одные приметы можно использовать для прогноза погоды. Они надежны, так как основаны на многолетних наблюдениях. Их можно объяснить с точки зрения наук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36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Что такое приметы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9480" y="2133720"/>
            <a:ext cx="7619760" cy="3659400"/>
            <a:chOff x="609480" y="2133720"/>
            <a:chExt cx="7619760" cy="3659400"/>
          </a:xfrm>
        </p:grpSpPr>
        <p:sp>
          <p:nvSpPr>
            <p:cNvPr id="111" name=""/>
            <p:cNvSpPr/>
            <p:nvPr/>
          </p:nvSpPr>
          <p:spPr>
            <a:xfrm>
              <a:off x="609480" y="213372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«примета»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2819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«примечать»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3581280"/>
              <a:ext cx="228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изменение погод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080" y="4724280"/>
              <a:ext cx="2667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влияние на урожа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961800" y="1904760"/>
              <a:ext cx="1067040" cy="1676520"/>
            </a:xfrm>
            <a:prstGeom prst="uturnArrow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5485680" y="2819160"/>
              <a:ext cx="1067040" cy="1676520"/>
            </a:xfrm>
            <a:prstGeom prst="uturnArrow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6857640" y="3886200"/>
              <a:ext cx="1066680" cy="1676520"/>
            </a:xfrm>
            <a:prstGeom prst="uturnArrow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лассификация приме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7240" y="22096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ты о погоде по поведению животных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ты о погоде по растениям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ты о погоде по небу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743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Живые барометры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сли пчелы с раннего утра отправляются за добычей – будет хороший день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сли жаворонка не слышно с самой зари – будет дождь, плохая погод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д дождем рыб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скакивают из вод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391520" y="1905120"/>
            <a:ext cx="1328760" cy="4267080"/>
            <a:chOff x="7391520" y="1905120"/>
            <a:chExt cx="1328760" cy="42670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467480" y="1905120"/>
              <a:ext cx="9907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467480" y="3276720"/>
              <a:ext cx="119376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7391520" y="4800600"/>
              <a:ext cx="132876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Растения тоже умеют    предсказывать погоду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00600" y="23623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сли на листьях плакун-травы появились капельки воды - ожидайте ухудшения погод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22096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Звездные приметы»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летнюю ночь много звезд на небе – день будет жарки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звезды кажутся маленькими – будет дождь, зимой – снег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везды яркие и пляшут – зимою к морозу, летом – к зною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286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1-12-04T19:25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